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C0B-15A6-491A-B482-8A42508B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B8F-0295-4F01-BBAC-233CECAE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7EA-19BF-4DAB-A53F-A4DB4F59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3D9-0270-4906-9B23-4B00AD85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A2B-4834-41DF-A0EC-09E38B89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22A-A591-4B71-A5B1-51E88EF5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9CE-1C1E-49A5-993B-C94E3262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EED-F939-4243-9BFB-CA0DF595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968-3075-4444-B752-814C0051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7DD-D736-41B4-AC4C-870F289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152-E4DF-48EE-A8DD-11D5A26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F25-297D-4E95-B39D-98D38DB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E80-7AA2-4349-AB62-C916E243E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 2008_2009 Q1 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, Lists, Validati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(html node struc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zichten naar het bo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ndeld wor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structuur: node rel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ken aan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9:55:48Z</dcterms:created>
  <dc:creator>Arjo Post</dc:creator>
  <dc:description/>
  <dc:language>en-US</dc:language>
  <cp:lastModifiedBy>Arjo Post</cp:lastModifiedBy>
  <dcterms:modified xsi:type="dcterms:W3CDTF">2008-09-15T09:14:32Z</dcterms:modified>
  <cp:revision>4</cp:revision>
  <dc:subject/>
  <dc:title>FED 2008_2009 Q1 Les2</dc:title>
</cp:coreProperties>
</file>